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E95-270A-4155-B484-2D1C7318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B67-17D2-4B23-9569-385F1044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86E-084B-4B4B-B097-A13C32BF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7B3-C918-4DCC-9D8D-EF1499E5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EB28-9635-418A-B458-0FAA3287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448E-C194-4A47-8490-2547872F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EE34-26A1-42A2-9B5E-9DD71971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135B-6602-4A4D-B104-6B46894A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4000-7630-4E15-98B6-A5C031C2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9444-7995-4BF8-B752-E67DA71B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F460-C015-4343-8C31-6C1E595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5E4-CE5E-4A0A-9EBF-6EC06BD2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7FE7-5C04-469A-96E6-284B336C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05E4-7D04-4FD1-A1BF-4E57450E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1557-ABCB-497A-AB1B-C08FAFAE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3946-2CDD-4445-8A35-E723589D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342B-C675-4E06-B4CD-BE512EC8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A5DC-3B41-4EB0-BEA1-D66255FD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3DE0-B36E-4D72-ACA3-5D425219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3792-E235-4A38-A598-597454A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32F8-A74A-4C77-AD49-1A77F6FD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69E6-E3D7-434E-ABC1-8C59527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882-914E-4FCA-8EA8-D60C23B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8264-226B-481D-85A9-37E437F9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18C4-0EF3-4802-96B4-EED0C0D8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DD4E-6BC8-494C-89C6-3896008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41B0-56AF-4201-B486-A874DCF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D553-5331-462A-AABF-EB7B6CB0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08D3-550B-4409-B12E-163C27B9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9567-673A-40F2-BAC8-09654450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B04D9-7296-447E-9779-ADD18CBC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90A3-D46C-4F7A-80DD-AD2A28B5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1C0F-5B9E-485C-8AE7-4E4E76C9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464-23D2-4A70-BC33-08AD2E21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E2D3-1172-47E0-87AC-B7559714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117F-1C42-40ED-A145-F058E5DF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43ED-F93C-401E-9874-9EDE3D72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9BB9-ABB3-4AFC-85B4-5B604486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BFC2-FE29-4911-8943-E10EF11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7BC4-B7EA-47AD-94CE-E441ECB0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9E0B-AE7B-4CA7-A20A-73CB1F27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93FF-090F-4D28-8CEF-87E86A9C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E1F8-70C9-4B52-92B0-015743CE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A27-9E13-4844-B7DC-62E03FEA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17E-033D-4D35-A87E-FA10C8DA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4B1-518D-4746-8FA5-EA04916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C7C-C681-4595-A45C-FC98D95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D6A-4111-4B0E-81B9-1D27F605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81B8-92BA-4CC7-AC62-62FDDDA7A9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E2EA-944B-4EAA-A782-A87737FEBA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DF54-E9B6-4604-B93C-E1053C40963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1E89-C829-4816-8052-1004B6E002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Content Placeholder 6" descr="custom8.gif"/>
          <p:cNvPicPr/>
          <p:nvPr/>
        </p:nvPicPr>
        <p:blipFill>
          <a:blip r:embed="rId1"/>
          <a:stretch/>
        </p:blipFill>
        <p:spPr>
          <a:xfrm>
            <a:off x="685800" y="213372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837-103F-4D35-B2E9-21DDF47D0AB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D605-9144-4AAE-A819-D468E0D221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33520" y="1447920"/>
            <a:ext cx="8153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Now, calculate the average of each subject :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* Using AVERGAE implied    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  func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* Using custom calculations     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          (sum/count)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C903-0C28-4CC6-855D-760A3EA278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custon9.gif"/>
          <p:cNvPicPr/>
          <p:nvPr/>
        </p:nvPicPr>
        <p:blipFill>
          <a:blip r:embed="rId1"/>
          <a:stretch/>
        </p:blipFill>
        <p:spPr>
          <a:xfrm>
            <a:off x="457200" y="17524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B56-632E-40E9-9337-238333E2C3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custom10.gif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of Calc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tion,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, Subtr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3*5 = 2+ (3*5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+5= (2/3)+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rackets if you are confu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FF64-1519-440F-A0B1-A9819D621D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Then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ar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 stat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 statement (option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If Mary’s Mark in subject1 &gt; 6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Then, She pas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lse, She fai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C60-FE53-4BA2-BFAF-F52F4E48EF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mu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F(&lt;logical statement&gt;, &lt;true statement&gt;, &lt;false statement&gt;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F(B4&gt;60,"pass","fail"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If your result is string or you are testing string, you should use “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BAFE-C452-4A88-BF55-8A53537AE3A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Content Placeholder 6" descr="If1.gif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B2FC-70B9-486D-BFC1-4191033F4D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Content Placeholder 6" descr="If2.gif"/>
          <p:cNvPicPr/>
          <p:nvPr/>
        </p:nvPicPr>
        <p:blipFill>
          <a:blip r:embed="rId1"/>
          <a:stretch/>
        </p:blipFill>
        <p:spPr>
          <a:xfrm>
            <a:off x="1066680" y="243828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157B-8FC7-4635-BDAE-C0447E18C78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33520" y="68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how to make if statement for subject 2 using Insert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0EF-C7EF-4EE8-A846-3E7BE47001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8" descr="If3.gif"/>
          <p:cNvPicPr/>
          <p:nvPr/>
        </p:nvPicPr>
        <p:blipFill>
          <a:blip r:embed="rId1"/>
          <a:stretch/>
        </p:blipFill>
        <p:spPr>
          <a:xfrm>
            <a:off x="762120" y="1828800"/>
            <a:ext cx="71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o be covered toda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calcu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vot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DF5D-C860-45D7-9397-F2E406E886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09480" y="990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best way to apply the function for subject 3 as wel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we want the test to 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than or equ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88F-1E7C-47E9-A4A4-6C0100B030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sted If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bject1 &gt;= 9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subject2 &gt;=7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B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IF(B4&gt;=90,"A", IF(B4&gt;=70,"B", “C")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D95A-709D-4CCC-BE73-CA92CB58CF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C69B-2F33-4102-9F2C-5818348A5C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Content Placeholder 8" descr="If4.gif"/>
          <p:cNvPicPr/>
          <p:nvPr/>
        </p:nvPicPr>
        <p:blipFill>
          <a:blip r:embed="rId1"/>
          <a:stretch/>
        </p:blipFill>
        <p:spPr>
          <a:xfrm>
            <a:off x="380880" y="1600200"/>
            <a:ext cx="8334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500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mmarize data in understanding m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5B8-A679-48F4-A776-1B90ECC3E6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Table 7" descr=""/>
          <p:cNvPicPr/>
          <p:nvPr/>
        </p:nvPicPr>
        <p:blipFill>
          <a:blip r:embed="rId1"/>
          <a:stretch/>
        </p:blipFill>
        <p:spPr>
          <a:xfrm>
            <a:off x="1755720" y="2901960"/>
            <a:ext cx="41086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inser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vot tab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r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where to put the 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 of inter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which to be in rows and which to be in colum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calculation to be performed; Max, Average,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A0CD-38CC-4015-9F27-86BF50E2AC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kup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, we have a code that we want it to be replaced with a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4E8B-C394-442D-9B7B-CDB6035E47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Table 6" descr=""/>
          <p:cNvPicPr/>
          <p:nvPr/>
        </p:nvPicPr>
        <p:blipFill>
          <a:blip r:embed="rId1"/>
          <a:stretch/>
        </p:blipFill>
        <p:spPr>
          <a:xfrm>
            <a:off x="5413320" y="3054240"/>
            <a:ext cx="951120" cy="1268640"/>
          </a:xfrm>
          <a:prstGeom prst="rect">
            <a:avLst/>
          </a:prstGeom>
          <a:ln w="0">
            <a:noFill/>
          </a:ln>
        </p:spPr>
      </p:pic>
      <p:pic>
        <p:nvPicPr>
          <p:cNvPr id="317" name="Table 8" descr=""/>
          <p:cNvPicPr/>
          <p:nvPr/>
        </p:nvPicPr>
        <p:blipFill>
          <a:blip r:embed="rId2"/>
          <a:stretch/>
        </p:blipFill>
        <p:spPr>
          <a:xfrm>
            <a:off x="2212920" y="3279600"/>
            <a:ext cx="1974960" cy="9446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9"/>
          <p:cNvSpPr/>
          <p:nvPr/>
        </p:nvSpPr>
        <p:spPr>
          <a:xfrm>
            <a:off x="1882440" y="51055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LOOKUP(B4,F3:G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Look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 for a certain text, e.g. student 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F745-9B48-412F-A16C-3B49F3A83C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Table 6" descr=""/>
          <p:cNvPicPr/>
          <p:nvPr/>
        </p:nvPicPr>
        <p:blipFill>
          <a:blip r:embed="rId1"/>
          <a:stretch/>
        </p:blipFill>
        <p:spPr>
          <a:xfrm>
            <a:off x="1835280" y="2597040"/>
            <a:ext cx="1365120" cy="11336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7"/>
          <p:cNvSpPr/>
          <p:nvPr/>
        </p:nvSpPr>
        <p:spPr>
          <a:xfrm>
            <a:off x="516240" y="4191120"/>
            <a:ext cx="540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 want to lookup student with Id 3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VLOOKUP(3000,A5:B9,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ula: VLOOKUP(Value, table, column Index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iki.ucalgary.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cienc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3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CPSC_203_Templat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CPSC 203 Lab Manual for Winter 2009 \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 tuto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ondu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mate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27E6-3F57-463E-889C-3892743667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stom Calc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your own Functions using “=“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CE90-BA01-4F64-8623-7F246E348EB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custom1.gif"/>
          <p:cNvPicPr/>
          <p:nvPr/>
        </p:nvPicPr>
        <p:blipFill>
          <a:blip r:embed="rId1"/>
          <a:stretch/>
        </p:blipFill>
        <p:spPr>
          <a:xfrm>
            <a:off x="1066680" y="2514600"/>
            <a:ext cx="66693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ontent Placeholder 6" descr="custom2.gif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0D61-2291-43B4-8468-D2C68E2003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6" descr="custom3.gif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5AD7-8607-4CC3-9ACC-6595303DEA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6" descr="custom4.gif"/>
          <p:cNvPicPr/>
          <p:nvPr/>
        </p:nvPicPr>
        <p:blipFill>
          <a:blip r:embed="rId1"/>
          <a:stretch/>
        </p:blipFill>
        <p:spPr>
          <a:xfrm>
            <a:off x="914400" y="213372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EAEC-0B5E-4DDB-B9CE-AB172411F9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Content Placeholder 6" descr="custom5.gif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C722-75AA-4E99-9AA8-8551549D3A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7A29-8F16-439B-B62E-8E38FE99677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7" descr="custom7.gif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1-21T19:42:58Z</dcterms:modified>
  <cp:revision>56</cp:revision>
  <dc:subject/>
  <dc:title>CPSC 203</dc:title>
</cp:coreProperties>
</file>